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41BC-8BE5-4DCF-AF98-0877F7837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6310-46A7-4C52-B2B1-486D72534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F57-CA36-4D24-9ABC-48EE1111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(Input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3AA-810F-47C4-A86B-74B735FA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Megan in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Sarah in haircuts and Megan in 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Justin in flats.  Kevin and Justin share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Justin in flats and Tim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Kevin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Kevin in dishes.  Hannah in vacu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Americans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American in computers and China in T.V.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FFB1-C969-40E2-9F67-DC80DF335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4C7-D93E-4AB0-ACED-E05B28E4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D20-3199-44D0-83EB-D5A9C03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DBB4B-2D26-4E93-BABE-10DCC7C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8063-ED64-435F-9810-43C56D44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0F3F-92CA-49C6-B113-DB2EA62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569B4-18E0-402D-8B72-40D46A4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D94A9-9688-4596-9E7D-1FEDEC0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E3DE5-2B8E-42B8-A439-50C95BE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853B1-7455-4AD0-AC91-5F062168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49CBB-06AA-436C-BA4A-1E5F4E2D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8718-8E09-46CF-8B1F-EACEEF4E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3C6D1-5FBB-4EC8-9FFD-A7558C33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C9C-B750-46BF-B221-511A327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D344C-8CAA-45EF-B447-F4939B2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3D1E5-1591-4A07-B1D5-5BE19F2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73F74-C51E-47B6-A944-7E51438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1AEBE-6E05-497D-A7A9-9EA1721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09F88-0D9B-45EE-90C0-CF880FA0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DA7FB-698A-4757-814A-BA52F85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97436-109A-4950-97CD-7749314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95DB-FD7F-44EA-90B0-635975B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FA234-4E18-42B5-8526-E1B2AD4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881B7-5DFC-400B-A198-9F853101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48C-2E3E-4636-85D8-6E1877CC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A3425-473E-4C64-B08B-59DD5000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EDB16-06FE-4276-AA6F-6A91CD40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086AC-872D-402C-BF5C-1AB91BD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87B78-CC25-4D24-8C66-0078EF1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57C0-342D-44F4-B7F0-D6B54281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93F1-5408-446F-9A59-68F89CB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4FA8A-FA89-4C04-AA73-75ADE6C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AD38-EF5F-4BAF-808F-8E44680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A8537-00F4-4CFB-8AED-CE27B2C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13A93-D8BC-41A0-BD22-897DA7C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6072-DB10-4AEA-BB01-9739CBCE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F4C58-C5C1-439F-BDBA-FB3B878A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1AD5-18C3-4CC6-A54D-BD0BE74E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BB55-BFE3-4E3A-8D8A-1E81FA5E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E4B16-E9D1-4F10-A9DB-3C9C62E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6ACF6-F6DD-4D04-A473-A3965E8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4929C-B698-4D2A-93B6-617F8783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8F13C-96E7-4564-B413-9239011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E5E3-0BC7-457E-9C33-3FE17E04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0295C-464F-42D9-984B-9AE3EC1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AC9DC-78D3-4144-82A9-CBE9431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806-33AB-417C-9841-D5FD4FAB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9A58-ECB6-430C-9227-84BCF0A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6F433-C91A-466B-9099-944142F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4163-980D-46EC-9907-2CE39093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36F17-E95C-4BD5-ABD6-7E0B661A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AF0D1-172E-4DAA-A101-A8F7B32B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CCD1-F2A0-4C53-BA02-D33493A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21B2-39E7-48FE-A3C4-998DE34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F01F-A739-40ED-9974-CC957B08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C229-C194-43DB-9F07-98F8EAB9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7157-01AF-416B-83D5-B7C9C3C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2E3-0C51-4111-B72B-DC6ED67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EA2-C238-4FF9-895C-8D7BEAA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247-9E99-439B-B20D-131E063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D230-47E9-44DB-853B-7C45B29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192-8A87-4474-B126-8AF38EEB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6E75-8D16-49CF-9003-18C3785F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FCC7-529C-40C0-9BD5-AE55F81C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3625-01D5-446A-A72F-AFC8F4AF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D202-3E0F-4D68-8443-4639518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1969-0F68-4C1D-B224-EC2C9C1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625E-521F-4739-90A1-E69F81C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220-6B9E-4983-8F69-F85758F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C395-833F-4E29-B79E-5280308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1F14-77F9-40BD-882D-8BD6864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CA59-4C20-4EEA-8B4A-F3EBF93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AE9B-0F9B-444D-BEC2-5E2637C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73B1-BFCB-4977-8148-66B39ADA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5FAB-2C41-4835-8A32-BABD3ABA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C40B-D53D-43AA-891D-FA3D14F5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1CFE-208D-4E5E-8662-ACB5676C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A8E6-D2F3-4B4E-AC5A-A602E8B2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ECB7-4441-41EC-998B-3C57C6E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2BF-0C18-4BA2-9633-13AE8C4C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4AF6-6889-485B-9970-3A44B18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23C4-403E-4ACA-8555-5376BB5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448F-9E96-4109-9DB2-94034D28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763B-3084-4DFF-9466-6C6DC61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F637-1609-42E4-BABA-F9C0523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467C-4D39-439A-A27B-1362386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4F75-4CF0-481C-A069-94B3306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DC40-76F7-44C4-BB6B-404772D2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9F52-F0B0-4682-95EC-D0CF04D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D756-37B6-4BEA-A9D8-8FF8B98B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B67-233B-4FC3-8DD7-1857C00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C7E6-4EA2-4ABB-BF17-E230DFDA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7E89-A303-4532-ADD6-3F5DCC98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30D1-96AE-4DFA-AB12-AE189F3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85FC-BDFE-4A32-AAAC-ED7D246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B07A-4616-4A94-A7C2-3CD1D7A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9858-EDF9-40EF-9BD7-FE9FE51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6241-B14E-4911-B754-749732A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EB82-9A43-4574-B4CB-B6FFC3D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5495-27F0-45BC-B158-86181B0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A7C8-24C7-42A5-B3F1-ACF1C396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C46-4C8A-48E3-99A5-B22FF12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9C88-A203-4069-905D-E5EB4EB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9ABF8-B701-4DD3-B0E9-6FE2923A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0B50-E288-4EBD-9053-DF92D210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61D4-B831-482A-A3F4-C9BC290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E7A4-9322-4B63-9637-3250F2F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7FD5-232A-47D9-B157-4012627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C23D5-BB95-40D8-BB66-14DDD25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8F10-EB31-406B-B95A-4C11203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6D62-643E-4F59-B510-7941488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CEBA-9FDB-4A5F-BBD5-D93457D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16D-D8F1-4AE8-82A2-E53935B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900B-1A39-41EF-A78C-78A2FB0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1A20-8FB7-475B-9A4E-210BF293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D340-5DCA-48A4-B265-165B0276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EFD0-5B10-4A7C-9807-CE2F4D00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F48D-B326-469A-9EC1-49515A49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6820-61A0-47FC-9B9F-0AEF630E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3C70-B900-40A0-A9FD-8CD8E657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8168-494E-4B15-9451-C7B179C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0C22-B817-4E2D-A36A-BE327C5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BCDC-4383-49DB-A220-2E483BC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BDD-21D4-407E-8524-B52C43DC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BC57-E876-462B-AD2E-E3CA0CE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172E-4557-4F0D-BD7C-C8C6EE3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1403-8629-41E1-841C-586E65E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F575-5DE3-4176-AF92-0569F7D0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1C92-7404-4793-950E-42304E6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4E577-796C-45EC-A3D1-894D4516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65A0-C9D6-4941-B4BA-C5DAA47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EE03-268A-461D-86E4-ADA03C0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1A01-E7F1-4B6A-AF91-C010ED20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5F94E-0566-4CBB-86DF-2C68BCB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086-1713-408C-8612-19EB979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EB2E-B317-4824-9A8E-9CED7023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A725-F809-4D95-B223-3FE0805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6C7C-4577-4DE3-B1EC-549AC5E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1A35-927F-476C-BA24-79BDD6F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3CD4-4FB9-422F-A958-DBF53F3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14E5-6C7F-4CF7-ADC7-2D65CBF3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037B-054B-4F86-8A5F-77C81B30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01808-715F-4EA5-88F6-E740C1AB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5495-DDF6-453F-86BF-F86ED02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2F1A4-BC7C-4F9A-9E87-3420590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5C8C-A5F3-429F-AB01-9DB6FC43B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47D-825C-43C1-BE19-48AD9DFC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924-70B0-40C6-A3FB-A1DF06978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643-7F7B-4E19-B9B7-EA0091CDA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1A9-A4B7-4905-93B4-4706ABFFB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436-E879-4730-ADCD-24D1D100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EE2-71AC-4D41-BB95-330D0775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985-E8F4-4026-8974-4F1C66FB4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8E6B-750E-4420-A4B3-2084FC19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EED-F49A-4929-A70C-2821AFD15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24D1-5F0B-4C29-B185-3219586D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C90-D307-4100-8EDA-98CE43C3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 5: 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calvin faces"/>
          <p:cNvPicPr/>
          <p:nvPr/>
        </p:nvPicPr>
        <p:blipFill>
          <a:blip r:embed="rId1"/>
          <a:stretch/>
        </p:blipFill>
        <p:spPr>
          <a:xfrm>
            <a:off x="2438280" y="2133720"/>
            <a:ext cx="422748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3F23-2340-4CD6-A751-DAE98B9F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26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028"/>
          <p:cNvSpPr/>
          <p:nvPr/>
        </p:nvSpPr>
        <p:spPr>
          <a:xfrm>
            <a:off x="563580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29"/>
          <p:cNvSpPr/>
          <p:nvPr/>
        </p:nvSpPr>
        <p:spPr>
          <a:xfrm>
            <a:off x="207648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1030"/>
          <p:cNvGrpSpPr/>
          <p:nvPr/>
        </p:nvGrpSpPr>
        <p:grpSpPr>
          <a:xfrm>
            <a:off x="1447920" y="1663560"/>
            <a:ext cx="6854760" cy="5194080"/>
            <a:chOff x="1447920" y="1663560"/>
            <a:chExt cx="6854760" cy="5194080"/>
          </a:xfrm>
        </p:grpSpPr>
        <p:sp>
          <p:nvSpPr>
            <p:cNvPr id="538" name="Rectangle 1031"/>
            <p:cNvSpPr/>
            <p:nvPr/>
          </p:nvSpPr>
          <p:spPr>
            <a:xfrm rot="16200000">
              <a:off x="865080" y="394380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32"/>
            <p:cNvSpPr/>
            <p:nvPr/>
          </p:nvSpPr>
          <p:spPr>
            <a:xfrm rot="16200000">
              <a:off x="4322520" y="392976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3"/>
            <p:cNvSpPr/>
            <p:nvPr/>
          </p:nvSpPr>
          <p:spPr>
            <a:xfrm>
              <a:off x="1722960" y="1663560"/>
              <a:ext cx="367200" cy="47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34"/>
            <p:cNvSpPr/>
            <p:nvPr/>
          </p:nvSpPr>
          <p:spPr>
            <a:xfrm>
              <a:off x="5250600" y="3133440"/>
              <a:ext cx="367200" cy="32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35"/>
            <p:cNvSpPr/>
            <p:nvPr/>
          </p:nvSpPr>
          <p:spPr>
            <a:xfrm>
              <a:off x="2302920" y="6252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036"/>
            <p:cNvSpPr/>
            <p:nvPr/>
          </p:nvSpPr>
          <p:spPr>
            <a:xfrm>
              <a:off x="5893920" y="626580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7"/>
            <p:cNvSpPr/>
            <p:nvPr/>
          </p:nvSpPr>
          <p:spPr>
            <a:xfrm>
              <a:off x="260604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038"/>
            <p:cNvSpPr/>
            <p:nvPr/>
          </p:nvSpPr>
          <p:spPr>
            <a:xfrm>
              <a:off x="607968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Group 1039"/>
            <p:cNvGrpSpPr/>
            <p:nvPr/>
          </p:nvGrpSpPr>
          <p:grpSpPr>
            <a:xfrm>
              <a:off x="5589720" y="1747800"/>
              <a:ext cx="2712960" cy="4519080"/>
              <a:chOff x="5589720" y="1747800"/>
              <a:chExt cx="2712960" cy="4519080"/>
            </a:xfrm>
          </p:grpSpPr>
          <p:sp>
            <p:nvSpPr>
              <p:cNvPr id="547" name="Line 1040"/>
              <p:cNvSpPr/>
              <p:nvPr/>
            </p:nvSpPr>
            <p:spPr>
              <a:xfrm>
                <a:off x="5629320" y="1747800"/>
                <a:ext cx="0" cy="451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1041"/>
              <p:cNvSpPr/>
              <p:nvPr/>
            </p:nvSpPr>
            <p:spPr>
              <a:xfrm>
                <a:off x="5589720" y="6253920"/>
                <a:ext cx="2712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1042"/>
            <p:cNvGrpSpPr/>
            <p:nvPr/>
          </p:nvGrpSpPr>
          <p:grpSpPr>
            <a:xfrm>
              <a:off x="2046240" y="1728720"/>
              <a:ext cx="3019320" cy="4555800"/>
              <a:chOff x="2046240" y="1728720"/>
              <a:chExt cx="3019320" cy="4555800"/>
            </a:xfrm>
          </p:grpSpPr>
          <p:sp>
            <p:nvSpPr>
              <p:cNvPr id="550" name="Line 1043"/>
              <p:cNvSpPr/>
              <p:nvPr/>
            </p:nvSpPr>
            <p:spPr>
              <a:xfrm>
                <a:off x="2073240" y="1728720"/>
                <a:ext cx="0" cy="455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044"/>
              <p:cNvSpPr/>
              <p:nvPr/>
            </p:nvSpPr>
            <p:spPr>
              <a:xfrm>
                <a:off x="2046240" y="6244920"/>
                <a:ext cx="3019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2" name=""/>
          <p:cNvGraphicFramePr/>
          <p:nvPr/>
        </p:nvGraphicFramePr>
        <p:xfrm>
          <a:off x="0" y="1380960"/>
          <a:ext cx="1371600" cy="5486400"/>
        </p:xfrm>
        <a:graphic>
          <a:graphicData uri="http://schemas.openxmlformats.org/drawingml/2006/table">
            <a:tbl>
              <a:tblPr/>
              <a:tblGrid>
                <a:gridCol w="73188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7772400" y="1380960"/>
          <a:ext cx="1371600" cy="4754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Rectangle 1145"/>
          <p:cNvSpPr/>
          <p:nvPr/>
        </p:nvSpPr>
        <p:spPr>
          <a:xfrm>
            <a:off x="1981080" y="251460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US Specializes and makes ONLY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146"/>
          <p:cNvSpPr/>
          <p:nvPr/>
        </p:nvSpPr>
        <p:spPr>
          <a:xfrm>
            <a:off x="5562720" y="251460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razil Makes ONLY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045-49F2-4C77-BFCB-E0D1060EB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34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6" descr="map_of_brazil_with_flag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027"/>
          <p:cNvSpPr/>
          <p:nvPr/>
        </p:nvSpPr>
        <p:spPr>
          <a:xfrm>
            <a:off x="1576440" y="762120"/>
            <a:ext cx="59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rade: 1 Wheat for 1.5 Su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1667880" y="78732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HIFTS THE PPC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558792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202896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2"/>
          <p:cNvSpPr/>
          <p:nvPr/>
        </p:nvSpPr>
        <p:spPr>
          <a:xfrm rot="16200000">
            <a:off x="817200" y="39441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3"/>
          <p:cNvSpPr/>
          <p:nvPr/>
        </p:nvSpPr>
        <p:spPr>
          <a:xfrm rot="16200000">
            <a:off x="4275000" y="3929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1675440" y="1663560"/>
            <a:ext cx="367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5202720" y="3133800"/>
            <a:ext cx="3672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2255400" y="6253200"/>
            <a:ext cx="260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    25 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5846400" y="6265800"/>
            <a:ext cx="170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2857680" y="26067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284880" y="40989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0"/>
          <p:cNvSpPr/>
          <p:nvPr/>
        </p:nvSpPr>
        <p:spPr>
          <a:xfrm flipH="1">
            <a:off x="3333600" y="3300480"/>
            <a:ext cx="735120" cy="608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1"/>
          <p:cNvSpPr/>
          <p:nvPr/>
        </p:nvSpPr>
        <p:spPr>
          <a:xfrm flipH="1">
            <a:off x="6302520" y="4700520"/>
            <a:ext cx="644400" cy="59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255816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3180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5581800" y="4265640"/>
            <a:ext cx="1198440" cy="1982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5"/>
          <p:cNvGrpSpPr/>
          <p:nvPr/>
        </p:nvGrpSpPr>
        <p:grpSpPr>
          <a:xfrm>
            <a:off x="5541840" y="1747800"/>
            <a:ext cx="2712960" cy="4519440"/>
            <a:chOff x="5541840" y="1747800"/>
            <a:chExt cx="2712960" cy="4519440"/>
          </a:xfrm>
        </p:grpSpPr>
        <p:sp>
          <p:nvSpPr>
            <p:cNvPr id="579" name="Line 26"/>
            <p:cNvSpPr/>
            <p:nvPr/>
          </p:nvSpPr>
          <p:spPr>
            <a:xfrm>
              <a:off x="5581440" y="1747800"/>
              <a:ext cx="0" cy="451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7"/>
            <p:cNvSpPr/>
            <p:nvPr/>
          </p:nvSpPr>
          <p:spPr>
            <a:xfrm>
              <a:off x="5541840" y="6254280"/>
              <a:ext cx="2712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Line 28"/>
          <p:cNvSpPr/>
          <p:nvPr/>
        </p:nvSpPr>
        <p:spPr>
          <a:xfrm flipH="1" flipV="1">
            <a:off x="2021040" y="1865160"/>
            <a:ext cx="2673360" cy="439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29"/>
          <p:cNvGrpSpPr/>
          <p:nvPr/>
        </p:nvGrpSpPr>
        <p:grpSpPr>
          <a:xfrm>
            <a:off x="1998720" y="1728720"/>
            <a:ext cx="3019320" cy="4555800"/>
            <a:chOff x="1998720" y="1728720"/>
            <a:chExt cx="3019320" cy="4555800"/>
          </a:xfrm>
        </p:grpSpPr>
        <p:sp>
          <p:nvSpPr>
            <p:cNvPr id="583" name="Line 30"/>
            <p:cNvSpPr/>
            <p:nvPr/>
          </p:nvSpPr>
          <p:spPr>
            <a:xfrm>
              <a:off x="2025720" y="1728720"/>
              <a:ext cx="0" cy="455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1"/>
            <p:cNvSpPr/>
            <p:nvPr/>
          </p:nvSpPr>
          <p:spPr>
            <a:xfrm>
              <a:off x="1998720" y="6244920"/>
              <a:ext cx="30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Rectangle 32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082E-EAF5-43AF-920C-ED83EA45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35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6" descr="map_of_brazil_with_flag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3"/>
          <p:cNvSpPr/>
          <p:nvPr/>
        </p:nvSpPr>
        <p:spPr>
          <a:xfrm>
            <a:off x="5334120" y="4952880"/>
            <a:ext cx="838080" cy="129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2133720" y="4267080"/>
            <a:ext cx="2590560" cy="1981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1523880" y="2590920"/>
            <a:ext cx="6264000" cy="4187880"/>
            <a:chOff x="1523880" y="2590920"/>
            <a:chExt cx="6264000" cy="4187880"/>
          </a:xfrm>
        </p:grpSpPr>
        <p:sp>
          <p:nvSpPr>
            <p:cNvPr id="594" name="Rectangle 6"/>
            <p:cNvSpPr/>
            <p:nvPr/>
          </p:nvSpPr>
          <p:spPr>
            <a:xfrm rot="16200000">
              <a:off x="941040" y="41968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 rot="16200000">
              <a:off x="4100400" y="41842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1775160" y="2590920"/>
              <a:ext cx="36720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4998960" y="3754440"/>
              <a:ext cx="367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2306160" y="6225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5587560" y="623304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2"/>
            <p:cNvSpPr/>
            <p:nvPr/>
          </p:nvSpPr>
          <p:spPr>
            <a:xfrm>
              <a:off x="2581920" y="641412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3"/>
            <p:cNvSpPr/>
            <p:nvPr/>
          </p:nvSpPr>
          <p:spPr>
            <a:xfrm>
              <a:off x="5756400" y="641556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308920" y="2657520"/>
              <a:ext cx="2478960" cy="3578040"/>
              <a:chOff x="5308920" y="2657520"/>
              <a:chExt cx="2478960" cy="3578040"/>
            </a:xfrm>
          </p:grpSpPr>
          <p:sp>
            <p:nvSpPr>
              <p:cNvPr id="603" name="Line 15"/>
              <p:cNvSpPr/>
              <p:nvPr/>
            </p:nvSpPr>
            <p:spPr>
              <a:xfrm>
                <a:off x="5344920" y="2657520"/>
                <a:ext cx="0" cy="3578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16"/>
              <p:cNvSpPr/>
              <p:nvPr/>
            </p:nvSpPr>
            <p:spPr>
              <a:xfrm>
                <a:off x="5308920" y="6225120"/>
                <a:ext cx="2478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7"/>
            <p:cNvGrpSpPr/>
            <p:nvPr/>
          </p:nvGrpSpPr>
          <p:grpSpPr>
            <a:xfrm>
              <a:off x="2070360" y="2642400"/>
              <a:ext cx="2759400" cy="3607200"/>
              <a:chOff x="2070360" y="2642400"/>
              <a:chExt cx="2759400" cy="3607200"/>
            </a:xfrm>
          </p:grpSpPr>
          <p:sp>
            <p:nvSpPr>
              <p:cNvPr id="606" name="Line 18"/>
              <p:cNvSpPr/>
              <p:nvPr/>
            </p:nvSpPr>
            <p:spPr>
              <a:xfrm>
                <a:off x="2094840" y="2642400"/>
                <a:ext cx="0" cy="360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19"/>
              <p:cNvSpPr/>
              <p:nvPr/>
            </p:nvSpPr>
            <p:spPr>
              <a:xfrm>
                <a:off x="2070360" y="6217920"/>
                <a:ext cx="2759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08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Rectangle 52"/>
          <p:cNvSpPr/>
          <p:nvPr/>
        </p:nvSpPr>
        <p:spPr>
          <a:xfrm>
            <a:off x="1908000" y="9144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3"/>
          <p:cNvSpPr/>
          <p:nvPr/>
        </p:nvSpPr>
        <p:spPr>
          <a:xfrm>
            <a:off x="1829880" y="1523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4"/>
          <p:cNvSpPr/>
          <p:nvPr/>
        </p:nvSpPr>
        <p:spPr>
          <a:xfrm>
            <a:off x="3888720" y="22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55"/>
          <p:cNvSpPr/>
          <p:nvPr/>
        </p:nvSpPr>
        <p:spPr>
          <a:xfrm>
            <a:off x="6708240" y="228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6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57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9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0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61"/>
          <p:cNvSpPr/>
          <p:nvPr/>
        </p:nvSpPr>
        <p:spPr>
          <a:xfrm>
            <a:off x="35827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1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2"/>
          <p:cNvSpPr/>
          <p:nvPr/>
        </p:nvSpPr>
        <p:spPr>
          <a:xfrm>
            <a:off x="63259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3"/>
          <p:cNvSpPr/>
          <p:nvPr/>
        </p:nvSpPr>
        <p:spPr>
          <a:xfrm>
            <a:off x="3430080" y="1523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2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4"/>
          <p:cNvSpPr/>
          <p:nvPr/>
        </p:nvSpPr>
        <p:spPr>
          <a:xfrm>
            <a:off x="6249600" y="1523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/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65"/>
          <p:cNvSpPr/>
          <p:nvPr/>
        </p:nvSpPr>
        <p:spPr>
          <a:xfrm>
            <a:off x="383400" y="213372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ich country has a comparative advantage in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67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68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9"/>
          <p:cNvSpPr/>
          <p:nvPr/>
        </p:nvSpPr>
        <p:spPr>
          <a:xfrm>
            <a:off x="938520" y="3200400"/>
            <a:ext cx="694584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Sug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Whe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IMPORT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608-C604-4AB6-8FEA-7E95AC76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61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533412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2" descr="map_of_brazil_with_flag"/>
          <p:cNvPicPr/>
          <p:nvPr/>
        </p:nvPicPr>
        <p:blipFill>
          <a:blip r:embed="rId2"/>
          <a:stretch/>
        </p:blipFill>
        <p:spPr>
          <a:xfrm>
            <a:off x="7772400" y="5105520"/>
            <a:ext cx="1204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http://www.ih.k12.oh.us/hsslonim/AP_Economics/MacVisual/6-2.ht11.gif"/>
          <p:cNvPicPr/>
          <p:nvPr/>
        </p:nvPicPr>
        <p:blipFill>
          <a:blip r:embed="rId1"/>
          <a:srcRect l="0" t="7958" r="0" b="0"/>
          <a:stretch/>
        </p:blipFill>
        <p:spPr>
          <a:xfrm>
            <a:off x="0" y="304920"/>
            <a:ext cx="6443640" cy="65530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4791600" y="2590920"/>
            <a:ext cx="4347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ut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5FF-F697-4B87-8B53-0D47D413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3" descr="http://www.ih.k12.oh.us/hsslonim/AP_Economics/MacVisual/6-3.ht12.gif"/>
          <p:cNvPicPr/>
          <p:nvPr/>
        </p:nvPicPr>
        <p:blipFill>
          <a:blip r:embed="rId1"/>
          <a:srcRect l="0" t="7259" r="0" b="10660"/>
          <a:stretch/>
        </p:blipFill>
        <p:spPr>
          <a:xfrm>
            <a:off x="0" y="380880"/>
            <a:ext cx="5913360" cy="58676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"/>
          <p:cNvSpPr/>
          <p:nvPr/>
        </p:nvSpPr>
        <p:spPr>
          <a:xfrm>
            <a:off x="4691880" y="2414520"/>
            <a:ext cx="43653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U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BF6-6149-429B-967D-13B173B04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91440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 of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BB6-7D59-45AB-950C-6F0C6B8F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Rectangle 20"/>
          <p:cNvSpPr/>
          <p:nvPr/>
        </p:nvSpPr>
        <p:spPr>
          <a:xfrm>
            <a:off x="16034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1830960" y="1523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22"/>
          <p:cNvSpPr/>
          <p:nvPr/>
        </p:nvSpPr>
        <p:spPr>
          <a:xfrm>
            <a:off x="3352680" y="228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6175440" y="22860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5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6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8"/>
          <p:cNvSpPr/>
          <p:nvPr/>
        </p:nvSpPr>
        <p:spPr>
          <a:xfrm>
            <a:off x="343080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9"/>
          <p:cNvSpPr/>
          <p:nvPr/>
        </p:nvSpPr>
        <p:spPr>
          <a:xfrm>
            <a:off x="6325920" y="9651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3431160" y="1523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249960" y="1523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32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33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4"/>
          <p:cNvSpPr/>
          <p:nvPr/>
        </p:nvSpPr>
        <p:spPr>
          <a:xfrm>
            <a:off x="76320" y="2209680"/>
            <a:ext cx="9067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nya wants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eater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3 pineapples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ny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radio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a wants Pineap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1 pineapple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di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pineapple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erms of trade benefit both countries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76320" y="2438280"/>
            <a:ext cx="90676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ing 1 radio for 2 pineapples will benefi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Kenya produces radios by themselves, they give up 3 Pineapples for each radio. If they can trade 2 pineapples for each radio they are better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India produces pineapples by themselves, they give up 1 pineapple for one radio. If they can get 2 pineapples for one radio they are bette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ies trade at a lower opportunity cost than if they made the products themselv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457200" y="304920"/>
          <a:ext cx="8305920" cy="1904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Rectangle 21"/>
          <p:cNvSpPr/>
          <p:nvPr/>
        </p:nvSpPr>
        <p:spPr>
          <a:xfrm>
            <a:off x="167976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1983240" y="16765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3352680" y="38088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6324480" y="380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32022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59454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312588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594540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3583080" y="11430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6478560" y="11174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3583440" y="16765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6402240" y="16765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3"/>
          <p:cNvSpPr/>
          <p:nvPr/>
        </p:nvSpPr>
        <p:spPr>
          <a:xfrm>
            <a:off x="3124080" y="838080"/>
            <a:ext cx="289584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4"/>
          <p:cNvSpPr/>
          <p:nvPr/>
        </p:nvSpPr>
        <p:spPr>
          <a:xfrm>
            <a:off x="5943600" y="152388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448200" y="0"/>
            <a:ext cx="814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rative Advant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673200"/>
            <a:ext cx="90676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reate a chart for each of the following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rst- Identify if it is a output or input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cond-Identify who has the 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ird-Identify who has a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urth- Identify how they should spec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ara gives 2 haircuts or 1 perm and hour. Megan gives 3 haircuts or 2 perms per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Justin fixes 16 flats or 8 brakes per day. Tim fixes 14 flats or 8 brakes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Hannah takes 30 minutes to wash dishes and 1 hour to vacuum the house. Kevin takes 15 minutes to wash dishes and 45 minutes to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ericans produce 50 computers or 50 TVs per hour. Chinese produce 30 computers or 40 TVs per ho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DEB-DDAF-4135-AA41-2AE6B4FF3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ernational Trade and Fi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5D50-734D-4303-8D37-E18F98BF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085840" cy="1322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5" descr="Ship"/>
          <p:cNvPicPr/>
          <p:nvPr/>
        </p:nvPicPr>
        <p:blipFill>
          <a:blip r:embed="rId2"/>
          <a:stretch/>
        </p:blipFill>
        <p:spPr>
          <a:xfrm>
            <a:off x="2133720" y="4114800"/>
            <a:ext cx="4933800" cy="23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85800" y="2666880"/>
            <a:ext cx="76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990720" y="3657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B5D8-5256-4F22-9A9E-F0511D30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0" y="3581280"/>
            <a:ext cx="9144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Expor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Goods &amp; Services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16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of American GD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US Exports have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doubl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cent of GDP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197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52280" y="990720"/>
            <a:ext cx="86108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losed vs. Open Econom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 closed economy focuses only on the domestic price and the open economy trades for the lower world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7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E5E-07C4-4B4B-B3BF-835A2990A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lance of Trade vs.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lance of Pay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28600" y="609480"/>
            <a:ext cx="86868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Net Exports (X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N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) = Exports –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rade Surplus = Exporting more than is impor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rade Deficit (aka. trade gap) = Exporting less than is impor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4" descr="mcc19359_tb0602"/>
          <p:cNvPicPr/>
          <p:nvPr/>
        </p:nvPicPr>
        <p:blipFill>
          <a:blip r:embed="rId1"/>
          <a:srcRect l="0" t="6898" r="0" b="0"/>
          <a:stretch/>
        </p:blipFill>
        <p:spPr>
          <a:xfrm>
            <a:off x="1219320" y="2743200"/>
            <a:ext cx="68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3" descr="TradeDeficit"/>
          <p:cNvPicPr/>
          <p:nvPr/>
        </p:nvPicPr>
        <p:blipFill>
          <a:blip r:embed="rId1"/>
          <a:srcRect l="0" t="11879" r="0" b="10946"/>
          <a:stretch/>
        </p:blipFill>
        <p:spPr>
          <a:xfrm>
            <a:off x="533520" y="1219320"/>
            <a:ext cx="8076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Payments (B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228600" y="609480"/>
            <a:ext cx="876312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alance of trade includes only goods and service but balance of payments considers ALL international trans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lance of payments is a broader measure of international tr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tails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BOP summary is within a given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repared in the domestic country’s curr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. If accounting the BOP of the U.S. it would be in the Do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The balance of payments is made up of two accounts. The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Arial"/>
              </a:rPr>
              <a:t>current account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 and the capital ac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62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ich countries have the highest account surpluses and account defici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0">
              <a:lnSpc>
                <a:spcPct val="80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1"/>
          <a:srcRect l="31877" t="26000" r="20625" b="31003"/>
          <a:stretch/>
        </p:blipFill>
        <p:spPr>
          <a:xfrm>
            <a:off x="1752480" y="914400"/>
            <a:ext cx="5791320" cy="3276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"/>
          <p:cNvPicPr/>
          <p:nvPr/>
        </p:nvPicPr>
        <p:blipFill>
          <a:blip r:embed="rId2"/>
          <a:srcRect l="31877" t="52001" r="20625" b="13000"/>
          <a:stretch/>
        </p:blipFill>
        <p:spPr>
          <a:xfrm>
            <a:off x="1752480" y="3886200"/>
            <a:ext cx="579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Ac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urrent Account is made up of three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rades in Goods and Servic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Net Exports)-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fference between a nation’s exports of goods and services and its imports of good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Toys imported from China, US cars exported to Mex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vestment Income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income from the factors of productions including payments made to foreign invest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Money earned by Japanese car producers in the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Net Transfers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Money flows from the private or public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donations, aids and grants, official ass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pital (Financial) Ac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apital Account measures the purchase and sale of financial assets abr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rchases of things that stay in the foreign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xample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US company buys a hotel in 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 Korean company sells a factory i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ividends earned by Chinese citizens in the New York Stock Exchange (NY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ustralian company owns local 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3" descr="3113084214_c458451335"/>
          <p:cNvPicPr/>
          <p:nvPr/>
        </p:nvPicPr>
        <p:blipFill>
          <a:blip r:embed="rId1"/>
          <a:stretch/>
        </p:blipFill>
        <p:spPr>
          <a:xfrm>
            <a:off x="1676520" y="48006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800pxd-Flag_of_Australia"/>
          <p:cNvPicPr/>
          <p:nvPr/>
        </p:nvPicPr>
        <p:blipFill>
          <a:blip r:embed="rId2"/>
          <a:stretch/>
        </p:blipFill>
        <p:spPr>
          <a:xfrm>
            <a:off x="5181480" y="495288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westfield_logo"/>
          <p:cNvPicPr/>
          <p:nvPr/>
        </p:nvPicPr>
        <p:blipFill>
          <a:blip r:embed="rId3"/>
          <a:stretch/>
        </p:blipFill>
        <p:spPr>
          <a:xfrm>
            <a:off x="3809880" y="5991120"/>
            <a:ext cx="1733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or Capital Accou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dentify if the examples are counted in the current or capital account and determine if it is a credit or debit for the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ll, an American, invests $20 million in a ski resort in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Korean company sells vests to the US 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US company, Boeing, sells twenty 747s to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hinese company buys a shopping mall in San D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llegal immigrant sends a portion of his earning to his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German investor buys $50,000 US Treasury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lian tourists spend 5 million in the US while American tourists spend 8 million in Ita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or Capital Accou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dentify if the examples are counted in the current or capital account and determine if it is a credit or debit for the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D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trade of goods/services), De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trade of goods/services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net transfer), De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net transfer), De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66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gic of Markets” Brown Bag Activ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E177-1283-456F-B360-C8A9D6CE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U.S. income increase relative to other countries. Does the balance of trade move toward a deficit or a surpl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.S. citizens have more disposable incom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mericans import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t exports (X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urrent account balance decreases and moves toward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defici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the U.S. doll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lative to other countries does the balance of trade move toward a deficit or a surpl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S exports are desi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merica exports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t exports (X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urrent account balance decreases and moves toward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urpl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-152280" y="304920"/>
            <a:ext cx="9296280" cy="2676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8174160" cy="1600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7640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1804680" y="3505320"/>
            <a:ext cx="56998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Foreign Exchan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(aka. FOREX)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601560" y="54864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xchange Rate = Relative Price of Curr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4" descr="foreign_exchange"/>
          <p:cNvPicPr/>
          <p:nvPr/>
        </p:nvPicPr>
        <p:blipFill>
          <a:blip r:embed="rId1"/>
          <a:srcRect l="0" t="25162" r="0" b="0"/>
          <a:stretch/>
        </p:blipFill>
        <p:spPr>
          <a:xfrm>
            <a:off x="3276720" y="838080"/>
            <a:ext cx="2509560" cy="249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deo: Down and Out Doll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xports and Im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US sells cars to Mex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Mexico buys tractors from C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anada sells syrup t the U.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Japan buys Fireworks from Mexic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all these transactions, there are different national currenc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country must be paid in their ow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uyer (importer) must exchange  their currency for that of the sellers (export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20070311100827!A_large_blank_world_map_with_oceans_marked_in_blue"/>
          <p:cNvPicPr/>
          <p:nvPr/>
        </p:nvPicPr>
        <p:blipFill>
          <a:blip r:embed="rId1"/>
          <a:stretch/>
        </p:blipFill>
        <p:spPr>
          <a:xfrm>
            <a:off x="3352680" y="1981080"/>
            <a:ext cx="5181840" cy="257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urnover in FOREX markets is almost $4 trillion (USD) a 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28600" y="2056320"/>
            <a:ext cx="2940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rrency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D = US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 = Eu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PY = Japanese Y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BP = British P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F = Swiss Fran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 = Canadian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D = Australian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ZD = New Zealand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"/>
          <p:cNvPicPr/>
          <p:nvPr/>
        </p:nvPicPr>
        <p:blipFill>
          <a:blip r:embed="rId1"/>
          <a:srcRect l="10626" t="21002" r="39376" b="8999"/>
          <a:stretch/>
        </p:blipFill>
        <p:spPr>
          <a:xfrm>
            <a:off x="152280" y="123840"/>
            <a:ext cx="769644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2436840" y="152280"/>
            <a:ext cx="40737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Exchange Rat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304920" y="685800"/>
            <a:ext cx="864396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In the FOREX market we only look at two countries/currencies at a tim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Dollars and British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e examine the price of one currency in terms of the other currency.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$2 = £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Exchange Rate depends on which currency you are conver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price of one US Dollar in terms of Pound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1 Dollar = £1/$2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£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price of one Pound in terms of Dollar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1 Pound = $2/£1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if you need more dollar to buy one pound (the price for a pound increases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From $2=£1 to $5=£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DE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Arial"/>
              </a:rPr>
              <a:t>Depre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he loss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More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ollar is said to be “Weak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if you need less dollar to buy one pound (the price for a pound decreases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From $2=£1 to $1=£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AP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Arial"/>
              </a:rPr>
              <a:t>Appre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he increase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Less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ollar is said to be “Strong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04920" y="0"/>
            <a:ext cx="861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6"/>
          <p:cNvSpPr/>
          <p:nvPr/>
        </p:nvSpPr>
        <p:spPr>
          <a:xfrm>
            <a:off x="152280" y="838080"/>
            <a:ext cx="899172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 people didn’t trade. What things would you have to go with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erything you don’t produce yoursel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lothes, car, cell phone, bananas, heath 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Everyone specializes in the production of goods and services and trades it to oth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life be like if cities couldn’t trade with cities or states couldn’t trade with s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imiting trade would reduce people’s choices and makes the worse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More access to trade means more choices and a higher standard of liv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269C-4702-4A81-B89E-87E93F5B7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>
            <a:off x="4518000" y="3573360"/>
            <a:ext cx="0" cy="239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H="1">
            <a:off x="1623960" y="3560760"/>
            <a:ext cx="2882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1731600" y="0"/>
            <a:ext cx="596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S&amp;D for the US Doll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0" y="60948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ce of US Dol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7284240" y="60310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7"/>
          <p:cNvSpPr/>
          <p:nvPr/>
        </p:nvSpPr>
        <p:spPr>
          <a:xfrm>
            <a:off x="2347920" y="1370160"/>
            <a:ext cx="4221000" cy="422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V="1">
            <a:off x="2538360" y="1272960"/>
            <a:ext cx="4175280" cy="4327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6705720" y="502920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by Brit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6773760" y="1081080"/>
            <a:ext cx="168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by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3554280" y="12924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ilibri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$1 = £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3046680" y="6172200"/>
            <a:ext cx="31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antity of US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762120" y="2362320"/>
            <a:ext cx="83808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14"/>
          <p:cNvSpPr/>
          <p:nvPr/>
        </p:nvSpPr>
        <p:spPr>
          <a:xfrm rot="16200000">
            <a:off x="1249200" y="210276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5"/>
          <p:cNvSpPr/>
          <p:nvPr/>
        </p:nvSpPr>
        <p:spPr>
          <a:xfrm flipH="1" rot="16200000">
            <a:off x="1249200" y="446544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6"/>
          <p:cNvSpPr/>
          <p:nvPr/>
        </p:nvSpPr>
        <p:spPr>
          <a:xfrm>
            <a:off x="2148120" y="2828880"/>
            <a:ext cx="1545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ppreci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2148480" y="3587760"/>
            <a:ext cx="1528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epreci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8"/>
          <p:cNvGrpSpPr/>
          <p:nvPr/>
        </p:nvGrpSpPr>
        <p:grpSpPr>
          <a:xfrm>
            <a:off x="1600200" y="1066680"/>
            <a:ext cx="5708520" cy="4941720"/>
            <a:chOff x="1600200" y="1066680"/>
            <a:chExt cx="5708520" cy="4941720"/>
          </a:xfrm>
        </p:grpSpPr>
        <p:sp>
          <p:nvSpPr>
            <p:cNvPr id="735" name="Line 19"/>
            <p:cNvSpPr/>
            <p:nvPr/>
          </p:nvSpPr>
          <p:spPr>
            <a:xfrm>
              <a:off x="1636920" y="1066680"/>
              <a:ext cx="0" cy="494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1600200" y="5981400"/>
              <a:ext cx="570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Text Box 21"/>
          <p:cNvSpPr/>
          <p:nvPr/>
        </p:nvSpPr>
        <p:spPr>
          <a:xfrm>
            <a:off x="228600" y="1219320"/>
            <a:ext cx="1371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ound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ollar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380880" y="0"/>
            <a:ext cx="8458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EX Supply and Demand Simplifi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0" y="129528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00"/>
                </a:solidFill>
                <a:latin typeface="Times New Roman"/>
                <a:ea typeface="Arial"/>
              </a:rPr>
              <a:t>Imagine a huge table with all the different currencies from every count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  <a:ea typeface="Arial"/>
              </a:rPr>
              <a:t>This is the Foreign Exchange Market!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Just like at a product market, you can’t take things without paying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m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one currency,  you must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ply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currency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4" descr="istockphoto_6516964-world-currencies"/>
          <p:cNvPicPr/>
          <p:nvPr/>
        </p:nvPicPr>
        <p:blipFill>
          <a:blip r:embed="rId1"/>
          <a:stretch/>
        </p:blipFill>
        <p:spPr>
          <a:xfrm>
            <a:off x="6400800" y="4952880"/>
            <a:ext cx="2552760" cy="170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1" name="Rectangle 5"/>
          <p:cNvSpPr/>
          <p:nvPr/>
        </p:nvSpPr>
        <p:spPr>
          <a:xfrm>
            <a:off x="457200" y="472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Ex: If Canadians what Russian Rubles. The demand for Rubles in the FOREX market will increase and the supply of Canadian Dollars will in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228600" y="2895480"/>
            <a:ext cx="86439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FOREX Shift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1600200" y="396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Let’s use the example of the US Dollar and the British 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304920" y="228600"/>
            <a:ext cx="864396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1. Changes in Tast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Ex: British tourists flock to the U.S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for U.S. dollars increases (shifts righ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British pounds increases (shifts righ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depreciat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ap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2. Changes in Relative Incomes (Resulting in more imports)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growth increase US incomes…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buys more imports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 ap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de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304920" y="228600"/>
            <a:ext cx="8643960" cy="65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3. Changes in Relative Price Level (Resulting in more imports)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prices increase relative to Brita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cheaper imports increas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 ap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de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4. Changes in relative Interest Rat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has a higher interest rate than Britai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people want to invest in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ital Flow increase towards the 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demand for U.S. dollars increas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supply more pou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de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ap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7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7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228600" y="1447920"/>
            <a:ext cx="864396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American tourists increase visits to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government significantly decreases personal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Inflation in the Japan rises significantly faster than in th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Japan has a large budget deficit that increases Japanese interest ra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Japan places high tariffs on all US im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suffers a larger rec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Federal Reserve sells bonds at high interest ra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6372360"/>
            <a:ext cx="9024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How do these scenarios affect exports and impor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28600" y="1447920"/>
            <a:ext cx="8643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(Demand Falls) and Yen appreciates (Supply Fa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(Supply Falls) and Yen depreciates (Demand Fa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5486400"/>
            <a:ext cx="90248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Scenarios 1, 2, and 4 will increase US exports because US products are now relatively “cheaper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380880" y="2666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and Comparative Advan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7524-EE52-4D90-924D-D1283141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152280" y="1600200"/>
            <a:ext cx="8991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it costs you $50 to produce 5 t-shirts. What is your PER UNIT cost for each shir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per shi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w, take money our of the equation. Instead of producing 5 shirts you could have made 10 h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shirt in terms of ha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shirt costs 2 h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hat in terms of shir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hat costs a half of a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DC8-F66A-4C70-AC82-96CF301F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3733920" y="838080"/>
            <a:ext cx="4876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= 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Units 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228600" y="838080"/>
            <a:ext cx="487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 Unit 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52280" y="685800"/>
            <a:ext cx="8991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onald McDonald can produce 20 pizzas or 200 burgers Papa John can produce 100 pizzas or 200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289-C353-4A5D-9A3A-DD8809CE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5105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nald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a John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pizz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5105520" y="20574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 10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4571640" y="28954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10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4952880" y="37339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s 2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4876200" y="45720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2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307800" y="0"/>
            <a:ext cx="8490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solute a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228600" y="685800"/>
            <a:ext cx="8915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that can produce the most output OR requires the least amount of inputs (resour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Papa John has an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bsolut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pizzas because he can produce 100 and Ronald can only make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with the lowest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Ronald has a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burgers because he has a lowest PER UNIT opportunity cos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761-BCDA-4D5F-814F-00A617F8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04920" y="4813200"/>
            <a:ext cx="86104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untries should trade if they have a relatively lower opportunity cos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hould specialize in the good that is “cheaper” for them to 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914400" y="2666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Specialize and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6B8-3FED-4561-82BC-A56A151A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3:32:15Z</dcterms:created>
  <dc:creator>jclifford</dc:creator>
  <dc:description/>
  <dc:language>en-US</dc:language>
  <cp:lastModifiedBy>Jacob</cp:lastModifiedBy>
  <dcterms:modified xsi:type="dcterms:W3CDTF">2012-03-20T05:06:29Z</dcterms:modified>
  <cp:revision>77</cp:revision>
  <dc:subject/>
  <dc:title>AP Economics</dc:title>
</cp:coreProperties>
</file>